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1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65840" y="6172200"/>
            <a:ext cx="65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1992–2005 by Deitel &amp; Associates, Inc. and Pearson Education Inc. All Rights Reserv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utorial 6 –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r Payment Calculat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lication: Introducing th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Repetition Statement</a:t>
            </a:r>
            <a:endParaRPr b="0" lang="en-US" sz="36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6.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r Payment Calculator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6.2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Repetition 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6.3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Increment and Decrement Op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6.4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r Payment Calculator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6.5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o…while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Repetition 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6.6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rap-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6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crement and Decrement Operators 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ry Increment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incr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ne to the value before the current statement exec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stincr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ne to the value after the current statement exec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ry Decrement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decr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tracts one from the value before the current statement exec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stdecr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tracts one from the value after the current statement exec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82560" y="1371600"/>
          <a:ext cx="7678800" cy="511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71600"/>
                    <a:ext cx="7678800" cy="51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6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crement and Decrement Operato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681120" y="1370160"/>
          <a:ext cx="7737480" cy="515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370160"/>
                    <a:ext cx="7737480" cy="51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6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ment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6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ment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124080" y="1623960"/>
            <a:ext cx="5534280" cy="2185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p continuation condition will be number of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2480" y="1219320"/>
            <a:ext cx="70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.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variables that are used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 Payment 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2136600"/>
            <a:ext cx="18288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e variables to store user input and calculated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43200" y="251784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" dur="1" fill="hold"/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" dur="1" fill="hold"/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389320" y="2057400"/>
            <a:ext cx="6221160" cy="2610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95360" y="1471680"/>
            <a:ext cx="819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.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pt user for and input car price, down payment and annual interest r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2514600"/>
            <a:ext cx="182880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mpt user for and input car price, down payment and annual interest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740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57400" y="30481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304812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6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ment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" dur="1" fill="hold"/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8" dur="1" fill="hold"/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9" dur="1" fill="hold"/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0" dur="1" fill="hold"/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 manipul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meterized stream manipu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w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es the width of the field of the next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ed using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iomanip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eader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parameterized stream manipu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s that values should be left justified in their output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ed using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iostream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eader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6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ment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36480" y="4896000"/>
            <a:ext cx="7869240" cy="438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739960" y="5562720"/>
            <a:ext cx="2441520" cy="3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6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ment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14600" y="1873080"/>
            <a:ext cx="6221520" cy="1638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headers to improve read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eft stream manipulator applies to all output until the end of execution or that format is c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3920" y="1386000"/>
            <a:ext cx="729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.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atting output us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f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ream manipula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2209680"/>
            <a:ext cx="221004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ing a table header us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f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ream manipul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62320" y="2743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1" dur="1" fill="hold"/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2" dur="1" fill="hold"/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6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ment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41600" y="1882800"/>
            <a:ext cx="6221520" cy="1619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ing tw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s when the result should be a floating-point value is a logic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7600" y="1371600"/>
            <a:ext cx="72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.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ing the amount borrowed and the monthly interest r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2057400"/>
            <a:ext cx="22860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 the loan amount and the monthly interest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2666880"/>
            <a:ext cx="8384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3" dur="1" fill="hold"/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4" dur="1" fill="hold"/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6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ment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389320" y="1963800"/>
            <a:ext cx="6221160" cy="1457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12920" y="1415880"/>
            <a:ext cx="50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.1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the result in currency form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2209680"/>
            <a:ext cx="190512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x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precis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format output as dollar amou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33720" y="28195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5" dur="1" fill="hold"/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6" dur="1" fill="hold"/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619360" y="2590920"/>
            <a:ext cx="5610240" cy="1390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62680" y="1852560"/>
            <a:ext cx="385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.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a table hea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6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ment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2819520"/>
            <a:ext cx="144756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ble 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304812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7" dur="1" fill="hold"/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8" dur="1" fill="hold"/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bjectiv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tutorial, you will lear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petition statement to execute statements repeatedl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counter-controlled repeti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increment and decrement operato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ef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eam manipulato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6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ment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32240" y="1716120"/>
            <a:ext cx="6230880" cy="1952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 controlled repetition (also called definite repet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er variabl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ea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controls number of times loop ite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repetitions is known before loop exec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2600" y="1309680"/>
            <a:ext cx="414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.1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t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057400"/>
            <a:ext cx="25146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ert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14600" y="22096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9" dur="1" fill="hold"/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0" dur="1" fill="hold"/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6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ment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436840" y="1873080"/>
            <a:ext cx="6249960" cy="1638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92120" y="1371600"/>
            <a:ext cx="607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.1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rting the loan duration from years to month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2209680"/>
            <a:ext cx="22860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termine the number of months in a loan peri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62320" y="25146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1" dur="1" fill="hold"/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2" dur="1" fill="hold"/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6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ment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438280" y="1873080"/>
            <a:ext cx="6249960" cy="1638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90760" y="1386000"/>
            <a:ext cx="816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.1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culateMonthlyPay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 returns the monthly pay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2209680"/>
            <a:ext cx="17528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 the monthly pay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251460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3" dur="1" fill="hold"/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4" dur="1" fill="hold"/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6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ment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13160" y="1873080"/>
            <a:ext cx="6249960" cy="1638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92480" y="1371600"/>
            <a:ext cx="832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.1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the number of months and the amount of each monthly pay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2209680"/>
            <a:ext cx="16765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 the monthly pa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2514600"/>
            <a:ext cx="1676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5" dur="1" fill="hold"/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6" dur="1" fill="hold"/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6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ment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14600" y="2025720"/>
            <a:ext cx="6249960" cy="13334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 variabl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ea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ncremented until the loop continuation condition (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ears &lt;= 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evaluates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5240" y="1415880"/>
            <a:ext cx="380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.1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menting the cou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2438280"/>
            <a:ext cx="15238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rement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ea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ou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27432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7" dur="1" fill="hold"/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8" dur="1" fill="hold"/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766880" y="2938320"/>
            <a:ext cx="5610240" cy="1847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95240" y="1700280"/>
            <a:ext cx="499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.1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from the completed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6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ment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0"/>
          <a:ext cx="6856560" cy="450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858000" y="457200"/>
            <a:ext cx="2286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rPayment.c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0" y="0"/>
          <a:ext cx="6856560" cy="52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6858000" y="685800"/>
            <a:ext cx="2286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rPayment.c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10280" y="1447920"/>
            <a:ext cx="16002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e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4495320" y="1523880"/>
            <a:ext cx="2514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2971800"/>
            <a:ext cx="32004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mpt for and input car price, down payment and annual interest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200400" y="3200040"/>
            <a:ext cx="2286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428640" y="3352680"/>
            <a:ext cx="2057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962160" y="3352680"/>
            <a:ext cx="15238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1" dur="1" fill="hold"/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2" dur="1" fill="hold"/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3" dur="1" fill="hold"/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4" dur="1" fill="hold"/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0" y="0"/>
          <a:ext cx="6856560" cy="250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25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7010280" y="3808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rPayment.c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1371600"/>
            <a:ext cx="20574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 a table 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3809880" y="456840"/>
            <a:ext cx="2438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2133720"/>
            <a:ext cx="236196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 the loan amount and monthly inter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352320" y="1447560"/>
            <a:ext cx="12956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2743200"/>
            <a:ext cx="19814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t floating-point values as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1218960" y="213336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1" dur="1" fill="hold"/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92" dur="1" fill="hold"/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0" y="0"/>
          <a:ext cx="6856560" cy="551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6934320" y="45720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rPayment.c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15000" y="1295280"/>
            <a:ext cx="23623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gin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2438280" y="457200"/>
            <a:ext cx="32767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2209680"/>
            <a:ext cx="38102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culateMonthlyPaym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 to get the monthly pa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4038120" y="20574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62720" y="3352680"/>
            <a:ext cx="26668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 the monthly pa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3809520" y="2971800"/>
            <a:ext cx="1752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4114800"/>
            <a:ext cx="20574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rement the cou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3429000" y="3505320"/>
            <a:ext cx="2362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4514760"/>
            <a:ext cx="20574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ght brace closes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837720" y="3886200"/>
            <a:ext cx="4419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5" dur="1" fill="hold"/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36" dur="1" fill="hold"/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6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ment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79600" y="2104920"/>
            <a:ext cx="798336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6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do…whil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Repetition Statemen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o…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petition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aluates the loop continuation condition after the loop body has been execu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nite l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ccur when loop continuation condition never becom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avoided with code that eventually makes loop continuation condi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-by-one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ccurs when loop executes for one less or one more iteration than necess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6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do…whil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Repetition Statemen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724120" y="1611360"/>
            <a:ext cx="3695760" cy="21621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…wh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de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6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do…whil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Repetition Statemen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82" name=""/>
          <p:cNvSpPr/>
          <p:nvPr/>
        </p:nvSpPr>
        <p:spPr>
          <a:xfrm>
            <a:off x="491400" y="1714680"/>
            <a:ext cx="633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.2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…wh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petition statement UML activity dia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57200" y="2427120"/>
            <a:ext cx="82296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465280" y="1905120"/>
            <a:ext cx="6221520" cy="3914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94280" y="1309680"/>
            <a:ext cx="743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.2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s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…wh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petition stat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6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do…whil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Repetition Statemen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2133720"/>
            <a:ext cx="18288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rt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…whi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57400" y="243828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3962520"/>
            <a:ext cx="22096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remen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ea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or next 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26708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5105520"/>
            <a:ext cx="20574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di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…whi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362320" y="5257440"/>
            <a:ext cx="9903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3" dur="1" fill="hold"/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64" dur="1" fill="hold"/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66880" y="2938320"/>
            <a:ext cx="5610240" cy="18478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718920" y="1776240"/>
            <a:ext cx="499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.2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from the completed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6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urier New"/>
              </a:rPr>
              <a:t>do…whil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Repetition Statemen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6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ment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66880" y="2111400"/>
            <a:ext cx="5610240" cy="1162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20360" y="1523880"/>
            <a:ext cx="758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before data has be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t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6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ment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66880" y="2111400"/>
            <a:ext cx="5610240" cy="1162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69520" y="1523880"/>
            <a:ext cx="73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.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 Payment 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after data has been ente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6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ment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66880" y="1654200"/>
            <a:ext cx="5610240" cy="2076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37920" y="1295280"/>
            <a:ext cx="73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.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 Payment 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displaying calculation resul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6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Repetition Statemen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4038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the first power of 3 greater than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3156120"/>
            <a:ext cx="4800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75aff"/>
                </a:solidFill>
                <a:latin typeface="Times New Roman"/>
                <a:ea typeface="Times New Roman"/>
              </a:rPr>
              <a:t>While there are still items on my shopping list</a:t>
            </a:r>
            <a:br>
              <a:rPr sz="1400"/>
            </a:br>
            <a:r>
              <a:rPr b="0" i="1" lang="en-US" sz="1400" spc="-1" strike="noStrike">
                <a:solidFill>
                  <a:srgbClr val="275aff"/>
                </a:solidFill>
                <a:latin typeface="Times New Roman"/>
                <a:ea typeface="Times New Roman"/>
              </a:rPr>
              <a:t>	</a:t>
            </a:r>
            <a:r>
              <a:rPr b="0" i="1" lang="en-US" sz="1400" spc="-1" strike="noStrike">
                <a:solidFill>
                  <a:srgbClr val="275aff"/>
                </a:solidFill>
                <a:latin typeface="Times New Roman"/>
                <a:ea typeface="Times New Roman"/>
              </a:rPr>
              <a:t>Purchase next item</a:t>
            </a:r>
            <a:br>
              <a:rPr sz="1400"/>
            </a:br>
            <a:r>
              <a:rPr b="0" i="1" lang="en-US" sz="1400" spc="-1" strike="noStrike">
                <a:solidFill>
                  <a:srgbClr val="275aff"/>
                </a:solidFill>
                <a:latin typeface="Times New Roman"/>
                <a:ea typeface="Times New Roman"/>
              </a:rPr>
              <a:t>	</a:t>
            </a:r>
            <a:r>
              <a:rPr b="0" i="1" lang="en-US" sz="1400" spc="-1" strike="noStrike">
                <a:solidFill>
                  <a:srgbClr val="275aff"/>
                </a:solidFill>
                <a:latin typeface="Times New Roman"/>
                <a:ea typeface="Times New Roman"/>
              </a:rPr>
              <a:t>Cross it off my li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5909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14560" y="4533840"/>
            <a:ext cx="3381120" cy="1638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9480" y="91440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tition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s actions, depending on the value of a 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p-continuation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p executes while condition remains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6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Repetition Statemen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nite 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ccurs when the loop continuation condition never becom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L diamond sym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as merge symbol and decision symb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rge symbol has multiple incoming transition arr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e of transition arrows associated with merge symbol have guard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symbol has multiple outgoing transition arr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42960" y="1228680"/>
            <a:ext cx="59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.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petition statement UML activity diagram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93800"/>
            <a:ext cx="8229600" cy="4338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6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Repetition Statemen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13:40:10Z</dcterms:created>
  <dc:creator>Eric Winokur</dc:creator>
  <dc:description/>
  <dc:language>en-US</dc:language>
  <cp:lastModifiedBy>Pearson Education</cp:lastModifiedBy>
  <dcterms:modified xsi:type="dcterms:W3CDTF">2004-10-11T14:11:07Z</dcterms:modified>
  <cp:revision>161</cp:revision>
  <dc:subject/>
  <dc:title>Slide 1</dc:title>
</cp:coreProperties>
</file>